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EDA-2E19-4A30-85A2-13E677FA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829-AD43-4CE8-9A61-29A375ED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777-1829-4CBB-88E1-21DBEE4D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3FF-8CAF-480F-BC91-092FFA04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4FF9-E60D-4806-9D5C-13A62290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27DE-AFFE-4675-8B15-55F5B94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74BC-5F35-4233-A5D1-4F1291B3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05AD-33AD-49C6-86F8-5099A81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9E84-B61F-4F0A-90B8-6F2CAF5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A87A-BF87-4454-9B62-EE633A9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48B-A9A2-401B-B8DB-A281648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4A0-B21D-4520-A85F-58D6A07D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04D0-584B-4295-BAC9-C2EF8E1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49E9-9D66-4F4F-901D-B3FFB73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F418-2C0E-4997-A632-2D10B380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99A-C332-4889-ABC0-1F3EA19E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71C-1BFB-402E-A6FA-1A339783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964-BFB0-4493-A0FC-941663F3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60E-3AFC-43D6-9C5E-4414D324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A0F-8846-423C-8F07-2AAFE3E4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322-9B3B-476B-B4FC-D6782623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B68-52B9-408D-A734-D19F3B9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FA3-BCD6-4A67-8AB3-04849C7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E9F-C24E-4769-B40E-228957E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E49-0966-4D91-BAFA-D4D0949C5B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3346-D44F-4F9F-89BA-F4F4637934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3.xml"/><Relationship Id="rId9" Type="http://schemas.openxmlformats.org/officeDocument/2006/relationships/slide" Target="slide19.xml"/><Relationship Id="rId10" Type="http://schemas.openxmlformats.org/officeDocument/2006/relationships/slide" Target="slide22.xml"/><Relationship Id="rId11" Type="http://schemas.openxmlformats.org/officeDocument/2006/relationships/slide" Target="slide25.xml"/><Relationship Id="rId12" Type="http://schemas.openxmlformats.org/officeDocument/2006/relationships/slide" Target="slide28.xml"/><Relationship Id="rId13" Type="http://schemas.openxmlformats.org/officeDocument/2006/relationships/slide" Target="slide31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" Target="slide3.xml"/><Relationship Id="rId21" Type="http://schemas.openxmlformats.org/officeDocument/2006/relationships/slide" Target="slide3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will never stir from your side, when I am suffered to be near you. Please God, I will be as true to you as you have been to me!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Grade Ques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3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295280"/>
            <a:ext cx="0" cy="5562720"/>
          </a:xfrm>
          <a:prstGeom prst="line">
            <a:avLst/>
          </a:prstGeom>
          <a:ln w="28440">
            <a:solidFill>
              <a:srgbClr val="4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Great Expectatio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By Charles Dicke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 flipH="1" flipV="1">
            <a:off x="9144000" y="-7632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17T22:54:08Z</dcterms:modified>
  <cp:revision>22</cp:revision>
  <dc:subject/>
  <dc:title>Are You Smarter  Than a 5th Grader?</dc:title>
</cp:coreProperties>
</file>